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509-38C9-47FA-AB8B-A8F21AED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22D-ED56-47C2-BA11-85FC785D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297-E838-4C7F-8877-02D63622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67D-C690-483A-A721-042DB325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086-B18D-44BC-9E02-86460D10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A9F-2CA4-46DA-BAD3-63932BC9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EA2-387B-42DC-AE88-9805E741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455-9D22-41DC-AE1C-9BBB8B89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B93-C310-493E-BA0D-44E33335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B62-4E9C-445A-ADAD-CBA6A99A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831-F397-4D73-8018-35451D7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3CA-1DF2-4896-A882-53245AE5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787B-346D-4046-A8E4-8D636D2030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9840" y="1219320"/>
            <a:ext cx="6833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Rotterdam Study Examp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3915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0" y="4800600"/>
            <a:ext cx="1447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487692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6934320" cy="3610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6934320" cy="1904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76720" y="4038480"/>
            <a:ext cx="2057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5562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9343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693432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14600" y="4572000"/>
            <a:ext cx="5562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2767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01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449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0" y="624852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467840" cy="3352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86600" y="502920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7467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01028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7010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73915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5638680"/>
            <a:ext cx="1447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0:38Z</dcterms:modified>
  <cp:revision>216</cp:revision>
  <dc:subject/>
  <dc:title>Slide 1</dc:title>
</cp:coreProperties>
</file>